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9C0-F1FB-4A0A-9C4F-157DA83B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D5D-EF58-4F10-97C5-1DCE1537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A6EE-37EA-46A4-88B1-7D0DA0C2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7881-D6EE-4B1B-AFE6-AD3B556A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642EB-B7B4-44B9-8879-E427F39E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439FD-BD5A-4141-B53A-CC8C4C07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B4724-5CF8-458D-A7A1-13E1C226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8E2E4-F41B-43FF-B9FE-E662DE4B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A0D94-1F15-4BFC-AA2E-BC7FBAB7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8F436-D384-4EAD-8CD8-B58C3814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0F52E-2566-451D-8513-9192E809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F7E-05D0-43A3-BC44-472D78E3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40407-E6B1-4C0C-8BBF-A0D13CB4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EBB58-D4B6-4A12-96F1-A49D511C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79B90-C36C-4499-99E8-BAA02882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A1360-4DE0-4E71-A932-28CDB15E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0D0BC-18EB-41DC-AFA5-4DF15010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146-06ED-4132-9716-0A2AF322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E306-255D-4514-A1A3-859E3DBC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69C-F1A0-4A96-8C22-AA71937A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2B2-84D0-4138-8F35-C3FA554E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65F1-8BE2-4474-89B9-5D77D140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A04-595E-45C5-844C-A88E02BD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834-1A7F-4787-8A20-4F04F58E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CB0F-6DEE-4C05-B9E3-AB553F860E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6881-6427-4C87-9079-228D2083E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The Halogen Family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onotype Corsiva"/>
              </a:rPr>
              <a:t>The 7</a:t>
            </a:r>
            <a:r>
              <a:rPr b="0" lang="en-US" sz="4800" spc="-1" strike="noStrike" baseline="30000">
                <a:solidFill>
                  <a:srgbClr val="ffffff"/>
                </a:solidFill>
                <a:latin typeface="Monotype Corsiva"/>
              </a:rPr>
              <a:t>th</a:t>
            </a:r>
            <a:r>
              <a:rPr b="0" lang="en-US" sz="4800" spc="-1" strike="noStrike">
                <a:solidFill>
                  <a:srgbClr val="ffffff"/>
                </a:solidFill>
                <a:latin typeface="Monotype Corsiva"/>
              </a:rPr>
              <a:t> group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Meet The Family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Fluorine (F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Chlorine (Cl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Bromine (Br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Iodine (I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Astatine (At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The family is located in the second column from the right side of the periodic ta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Halogens on the Periodic Table"/>
          <p:cNvPicPr/>
          <p:nvPr/>
        </p:nvPicPr>
        <p:blipFill>
          <a:blip r:embed="rId2"/>
          <a:stretch/>
        </p:blipFill>
        <p:spPr>
          <a:xfrm>
            <a:off x="3809880" y="1752480"/>
            <a:ext cx="4419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Learn About The Family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Due to their high reactivity, the Halogens cannot be found in nature in native form. They actually come from salt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The family likes to visit group 1 a lot, they have 7 electrons on their outer she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Did you know that the family’s middle name is nonmetal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The Halogens are known for working in the toothpaste, and sanitizing buisn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Family Histor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The Halogen Family was used in World War I as a poison gas to kill enemi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Salt is partly made from the family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The family is also used to treat disea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53:41Z</dcterms:created>
  <dc:creator>tatumadmin</dc:creator>
  <dc:description/>
  <dc:language>en-US</dc:language>
  <cp:lastModifiedBy>tatumadmin</cp:lastModifiedBy>
  <dcterms:modified xsi:type="dcterms:W3CDTF">2009-12-04T21:30:25Z</dcterms:modified>
  <cp:revision>3</cp:revision>
  <dc:subject/>
  <dc:title>The Haolgen </dc:title>
</cp:coreProperties>
</file>